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369B09-E1F7-4C9D-9403-F41A99B428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1C9-78D4-4B61-909A-70D53AA7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115-5085-4D38-A81B-E7AAD4BF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7BA-F836-4B41-A376-E46B9E8B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BC8-D0C8-488A-9718-EF38DE0A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712-91D9-4C9A-84F7-A990963E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BA3-DD86-40E2-8D92-05FFB0D8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51E-2DE8-4837-B979-5BBC8ABD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E03D-6F0D-4957-A631-B4CA651B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E21-2D45-4771-B67C-42EECD91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824-C57A-495A-A32F-C20EAA05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5AE-8F0D-4B4C-833D-9D1A687C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1F0-FD6F-4EB7-B3A5-789B8941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0D27F6-C1FF-49A2-9C7C-3DEA77A9B5E9}" type="slidenum">
              <a:rPr b="0" lang="en-US" sz="1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6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8288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Rolling Fric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5238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type of fluid friction in air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5238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ir resistanc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hanges sliding friction to fluid frictio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44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lubrican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force of attractio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Gravit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90512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auses an increase in gravitational force. 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"/>
            <a:ext cx="7696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What are the affects of an increase in the masses of two objects or a decease in the distance between them?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98108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measure of the force of gravity on an objec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>
            <a:hlinkClick r:id="rId1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weigh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9.8 m/s/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600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acceleration due to gravity on Earth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905120"/>
            <a:ext cx="80769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ass X acceleration due to gravit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(m x g)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90512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formula for calculating weigh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7524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push or a pull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7524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forc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3716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wo forces that are equal and opposite in directio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3716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unbalanced force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44792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wo forces that cancel each other ou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balanced force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752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unit for force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752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ewt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7524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Used to symbolize force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752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vector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n object accelerating due to gravity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free fall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9144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auses objects to not fall at the same rat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600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ir resistanc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29528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hape can be changed to minimize air resistanc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Friction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Free Fall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6095880" y="0"/>
            <a:ext cx="1524240" cy="1371600"/>
          </a:xfrm>
          <a:custGeom>
            <a:avLst/>
            <a:gdLst>
              <a:gd name="textAreaLeft" fmla="*/ 88560 w 1524240"/>
              <a:gd name="textAreaRight" fmla="*/ 1435680 w 152424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Newton's 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Laws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Lab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">
            <a:hlinkClick r:id="rId6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Forces</a:t>
            </a:r>
            <a:endParaRPr b="0" lang="en-US" sz="23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erodynamic desig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144792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orized that objects of different weights will fall at the same speed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is Galileo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6002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termines the amount of air resistance on an objec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6002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do the cross-sectional area and the speed of an object determine? 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453960"/>
            <a:ext cx="77724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An object at rest remains at rest and an object in motion remains in motion, unless acted upon by an outside force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4479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Newton's First Law of Mo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37160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n objects tendency to remain at res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3716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Inertia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600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ncreases as force is increased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133720"/>
            <a:ext cx="7543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286000"/>
            <a:ext cx="7543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ff6633"/>
                </a:solidFill>
                <a:latin typeface="Times New Roman"/>
              </a:rPr>
              <a:t>The force that opposes motion.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600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peed (or acceleration)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3716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or every action, there is an equal and opposite reactio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3716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Newton's Third law of mo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4479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Law of motion that allows birds to fly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4479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Newton's Third law of mo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29528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lab showed that speed increases as mass decreases. 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12952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Balloon Powered Car lab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175248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n the Shipping and Sliding Lab, this increased with a coarse tex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752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Fric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14479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One concept we examined in the Shipping and Sliding Lab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2133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Fric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4479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ncreases frictional force and sliding fric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0" y="-22860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5720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helped to increase speed in both the Balloon car lab and the Free Fall Lab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14479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erodynamic desig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182880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ncept we learned in the “Would a Gorilla fall faster than a Banana” lab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82880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concept, mass does not affect the falling rate of an objec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/>
          </p:cNvPr>
          <p:cNvSpPr/>
          <p:nvPr/>
        </p:nvSpPr>
        <p:spPr>
          <a:xfrm>
            <a:off x="685800" y="685800"/>
            <a:ext cx="8001000" cy="5486400"/>
          </a:xfrm>
          <a:custGeom>
            <a:avLst/>
            <a:gdLst>
              <a:gd name="textAreaLeft" fmla="*/ 355320 w 8001000"/>
              <a:gd name="textAreaRight" fmla="*/ 7645680 w 8001000"/>
              <a:gd name="textAreaTop" fmla="*/ 355320 h 5486400"/>
              <a:gd name="textAreaBottom" fmla="*/ 5131080 h 5486400"/>
            </a:gdLst>
            <a:ahLst/>
            <a:rect l="textAreaLeft" t="textAreaTop" r="textAreaRight" b="textAreaBottom"/>
            <a:pathLst>
              <a:path w="31499" h="21600">
                <a:moveTo>
                  <a:pt x="0" y="0"/>
                </a:moveTo>
                <a:lnTo>
                  <a:pt x="31499" y="0"/>
                </a:lnTo>
                <a:lnTo>
                  <a:pt x="31499" y="21600"/>
                </a:lnTo>
                <a:lnTo>
                  <a:pt x="0" y="21600"/>
                </a:lnTo>
                <a:close/>
              </a:path>
              <a:path fill="lightenLess" w="31499" h="21600">
                <a:moveTo>
                  <a:pt x="0" y="0"/>
                </a:moveTo>
                <a:lnTo>
                  <a:pt x="31499" y="0"/>
                </a:lnTo>
                <a:lnTo>
                  <a:pt x="30099" y="1400"/>
                </a:lnTo>
                <a:lnTo>
                  <a:pt x="1400" y="1400"/>
                </a:lnTo>
                <a:close/>
              </a:path>
              <a:path fill="darken" w="31499" h="21600">
                <a:moveTo>
                  <a:pt x="31499" y="0"/>
                </a:moveTo>
                <a:lnTo>
                  <a:pt x="31499" y="21600"/>
                </a:lnTo>
                <a:lnTo>
                  <a:pt x="30099" y="20200"/>
                </a:lnTo>
                <a:lnTo>
                  <a:pt x="30099" y="1400"/>
                </a:lnTo>
                <a:close/>
              </a:path>
              <a:path fill="darkenLess" w="31499" h="21600">
                <a:moveTo>
                  <a:pt x="314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99" y="20200"/>
                </a:lnTo>
                <a:close/>
              </a:path>
              <a:path fill="lighten" w="314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371600"/>
            <a:ext cx="78487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 would do this to decrease sliding frictio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685800"/>
            <a:ext cx="784872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Wheels? 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O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Lubrican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002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riction between two solid object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6002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liding fric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8288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friction that includes ball bearing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Kim Overstreet</cp:lastModifiedBy>
  <dcterms:modified xsi:type="dcterms:W3CDTF">2004-04-26T15:23:14Z</dcterms:modified>
  <cp:revision>20</cp:revision>
  <dc:subject/>
  <dc:title>No Slide Title</dc:title>
</cp:coreProperties>
</file>